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41B5-3B5B-451C-A763-064CD58E95D9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i-F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Dian numeron paikkamerkki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21AF-1B6A-41A4-8BB3-8EB638687E2D}" type="slidenum">
              <a:rPr b="0" lang="fi-F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13E-0B67-4BF5-81BB-C54C7DC1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C92-98CB-4900-B9D5-215CB75D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7C4-49E6-4CE1-B2CA-82865AD2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D057-DCF7-4161-932E-280F8D84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3BCA-E9D3-4C4C-A143-EE85A97D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549-BEBC-4B0D-AE76-AF956DCA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D2A-9795-4061-BE7D-D78F713A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B6FB-2E88-4BF2-870E-467966E1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E628-C606-4C01-955E-A26782A7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098-8A3F-41B4-BB4C-A396BC52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FF49-C164-440A-B3D0-5EB23248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808-8210-4693-A996-C462DC09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F8E6-8416-41BB-ABE1-879384F6CC91}" type="slidenum">
              <a:rPr b="0" lang="fi-FI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Kuva 6" descr=""/>
          <p:cNvPicPr/>
          <p:nvPr/>
        </p:nvPicPr>
        <p:blipFill>
          <a:blip r:embed="rId3"/>
          <a:stretch/>
        </p:blipFill>
        <p:spPr>
          <a:xfrm>
            <a:off x="450720" y="5877000"/>
            <a:ext cx="2392560" cy="63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9600" spc="-1" strike="noStrike">
                <a:solidFill>
                  <a:srgbClr val="92d050"/>
                </a:solidFill>
                <a:latin typeface="Calibri"/>
              </a:rPr>
              <a:t>TUTO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Ammattiopisto Livia, Maaseutuopis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6000" spc="-1" strike="noStrike">
                <a:solidFill>
                  <a:srgbClr val="92d050"/>
                </a:solidFill>
                <a:latin typeface="Calibri"/>
              </a:rPr>
              <a:t>    </a:t>
            </a:r>
            <a:r>
              <a:rPr b="0" lang="fi-FI" sz="6000" spc="-1" strike="noStrike">
                <a:solidFill>
                  <a:srgbClr val="92d050"/>
                </a:solidFill>
                <a:latin typeface="Calibri"/>
              </a:rPr>
              <a:t>Tutoroinnin periaattee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utorointi tarkoittaa auttamista, tukemista, opastamista ja ohjaam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 voi olla organisoitua tai organisoimato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 olla yksilö- tai ryhmäohjau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 ole yksisuuntaista tiedonsiirtoa vaan kahden tai useamman ihmisen välistä yhteydenpito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6000" spc="-1" strike="noStrike">
                <a:solidFill>
                  <a:srgbClr val="92d050"/>
                </a:solidFill>
                <a:latin typeface="Calibri"/>
              </a:rPr>
              <a:t>                              </a:t>
            </a:r>
            <a:r>
              <a:rPr b="0" lang="fi-FI" sz="6000" spc="-1" strike="noStrike">
                <a:solidFill>
                  <a:srgbClr val="92d050"/>
                </a:solidFill>
                <a:latin typeface="Calibri"/>
              </a:rPr>
              <a:t>Tarkoit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Tutor saa kokemuksensa tuomalla viisaudella, oikealla asenteella, tiedoillaan ja taidoillaan uudet opiskelijat paremmin sinuiksi opistoomme ja alkaviin opintoihins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6000" spc="-1" strike="noStrike">
                <a:solidFill>
                  <a:srgbClr val="92d050"/>
                </a:solidFill>
                <a:latin typeface="Calibri"/>
              </a:rPr>
              <a:t>                                  </a:t>
            </a:r>
            <a:r>
              <a:rPr b="0" lang="fi-FI" sz="6000" spc="-1" strike="noStrike">
                <a:solidFill>
                  <a:srgbClr val="92d050"/>
                </a:solidFill>
                <a:latin typeface="Calibri"/>
              </a:rPr>
              <a:t>Ohja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Ohjaus voi olla ennaltaehkäisevää, korjaavaa, tulkitsevaa tai kehittävä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Ohjaajan tulisi rohkaista uusia opiskelijoit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6000" spc="-1" strike="noStrike">
                <a:solidFill>
                  <a:srgbClr val="92d050"/>
                </a:solidFill>
                <a:latin typeface="Calibri"/>
              </a:rPr>
              <a:t>Tutorin asenteet ja taido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Tutoroinnissa on pitkälti kyse samanlaisista taidoista ja tehtävistä, joita opettajat työkseen tekevä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Tutorin asenne on tärkeämpi kuin tietotaito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5400" spc="-1" strike="noStrike">
                <a:solidFill>
                  <a:srgbClr val="92d050"/>
                </a:solidFill>
                <a:latin typeface="Calibri"/>
              </a:rPr>
              <a:t>Onnistumisen edellytyksiä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le kiinnostunut uusista opiskelijoi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Huomioi erilaiset oppijat ja persoon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le valmis antamaan tietosi, taitosi ja kokemuksesi uusien opiskelijoiden käyttöö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uta ja tue aktiivis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Kuunte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Kuvittele itsesi uuden opiskelijan asem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Älä arvostele tai moraliso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Itseensä, osaamiseensa ja toiseen ihmiseen luottava, mutta samalla nöyrä ja avoin ohjaaja on mainio tu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6000" spc="-1" strike="noStrike">
                <a:solidFill>
                  <a:srgbClr val="92d050"/>
                </a:solidFill>
                <a:latin typeface="Calibri"/>
              </a:rPr>
              <a:t>          </a:t>
            </a:r>
            <a:r>
              <a:rPr b="0" lang="fi-FI" sz="6000" spc="-1" strike="noStrike">
                <a:solidFill>
                  <a:srgbClr val="92d050"/>
                </a:solidFill>
                <a:latin typeface="Calibri"/>
              </a:rPr>
              <a:t>Ei yhtä mallia toimi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Ole luova ja toimi tilanteen mukaan, ei ole yhtä ja ainoaa oikeaa mall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Löydä tekemällä oikeat ratkaisu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Yritys ja erehdys ovat sallittuj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000000"/>
                </a:solidFill>
                <a:latin typeface="Calibri"/>
              </a:rPr>
              <a:t>Kokei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5400" spc="-1" strike="noStrike">
                <a:solidFill>
                  <a:srgbClr val="92d050"/>
                </a:solidFill>
                <a:latin typeface="Calibri"/>
              </a:rPr>
              <a:t>   </a:t>
            </a:r>
            <a:r>
              <a:rPr b="0" lang="fi-FI" sz="5400" spc="-1" strike="noStrike">
                <a:solidFill>
                  <a:srgbClr val="92d050"/>
                </a:solidFill>
                <a:latin typeface="Calibri"/>
              </a:rPr>
              <a:t>Tutorin avainominaisuuksi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mpat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Lämp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ito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6000" spc="-1" strike="noStrike">
                <a:solidFill>
                  <a:srgbClr val="92d050"/>
                </a:solidFill>
                <a:latin typeface="Calibri"/>
              </a:rPr>
              <a:t>                                 </a:t>
            </a:r>
            <a:r>
              <a:rPr b="0" lang="fi-FI" sz="6000" spc="-1" strike="noStrike">
                <a:solidFill>
                  <a:srgbClr val="92d050"/>
                </a:solidFill>
                <a:latin typeface="Calibri"/>
              </a:rPr>
              <a:t>Hyödy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utoroinnista hyväksytään 2 ov vapaasti valittaviin opintoih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utorointi painottuu opintojen alkuvaiheeseen jossa tuen tarve on suur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utorointi antaa kokemusta ja esiintymistaito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1:35:55Z</dcterms:created>
  <dc:creator>Jatta Ikäheimonen</dc:creator>
  <dc:description/>
  <dc:language>en-US</dc:language>
  <cp:lastModifiedBy>Erävesi Essi</cp:lastModifiedBy>
  <dcterms:modified xsi:type="dcterms:W3CDTF">2012-05-10T05:53:24Z</dcterms:modified>
  <cp:revision>14</cp:revision>
  <dc:subject/>
  <dc:title>PowerPoint-esitys</dc:title>
</cp:coreProperties>
</file>